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D94-A295-4263-89C8-366A6DAD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DFA-74FC-4607-910C-D836ED7F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77FD4-4609-45B3-9C4D-765F5C7B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646AC-2B48-4035-B621-EFEFE371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5E2DA-C8A9-4E44-9363-9B50DDB9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796E5-925C-4E13-BBF8-21E921B0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D4BA9-1FF6-4FED-8FAA-6CF07D31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8C88A-8A69-4F56-80C9-6CD4AF2D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8EA6C-3D1E-44D2-A0AE-4BCFABE5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8DFB7-DF08-4474-84FB-A60C3A08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822F8-2E13-43ED-A541-AC66A61A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17993-3FD1-4ECB-AB24-39CEC186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65D-7875-483A-B401-DB8FCA08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B5BE6-B476-4574-AD7D-62373ED9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5A38F-E95E-44C8-B248-275D11D9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594E4-6DB2-4D41-BA48-3FF926D3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21498-3917-4CC4-BEE1-D1D809E1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05767-AFE9-4A6E-A4EA-4FF80D29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D9208-9FFE-41A5-A250-E0D478EF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959E1-3FF5-4425-AD34-632D5DAA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090F3-872D-4510-8F77-0BFC50F5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53829-4E6F-478C-A1D3-5B3A7CE5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DB600-2AB6-4264-81D9-31D75BC1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3A5-B143-45B6-932D-808810E4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EBB17-90AC-4436-B01A-DC6C65BC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5ADA3-4C31-42F7-9C80-C0F0F8C6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4BB72-ED4E-4432-9114-72834574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83936-BDD6-497F-927E-9EBCE035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82550-5780-4FBD-A715-F0743A67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2401C-B0C4-4C53-B30B-EBDD4B9B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1BF73-774C-4B12-9016-F05AC2F5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1F61E-4126-442E-846A-7D4AAF3E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9DC04-4126-4062-9A4D-0930D86C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E2F79-E12F-4DC3-A0B0-4453A044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2BFC-2298-4787-A305-67690AA4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3B76F-BB09-4C85-9DB1-87004D12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57840-F1EE-4289-B2FD-B83A9C12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52CF2-BE3D-4786-912F-47287110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3DBA8-2E11-438E-B3C5-E5DC4A9F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56167-C586-4DCC-889F-709E1972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86FC2-1BA6-4678-A523-5F0D9634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72E4A-CC8D-43F3-8FE2-F2E040B4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97E3C-4B78-470B-B43A-4A1C9D8F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49B2D-98C8-4629-80B8-C5064A82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BC90A-A5CC-45C4-8B01-71BF11FF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39D7-EBBE-490D-9119-91C49168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65967-4FA0-42BC-AD2F-B8AAEECA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9C29B-1562-4E72-8F57-E2C4AD0C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02BC1-E4FA-4D2D-A5C2-933EC6CE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880B0-ADE0-43E3-84ED-E3CD22B4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B23B7-9D3A-436D-A4D5-D784BBFF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11C66-FB3C-4760-A423-05533BF3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1CAFD-8930-4B82-AB74-589F8CD1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13919-6A78-48A7-8575-A3894D82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2CA70-899F-4FA4-BCF7-4964E73A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C9688-19A6-43DA-B50B-D07C9593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B1AD-DDA6-40FF-A266-78F9EF18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21794-63C3-4051-8E7E-5242BC22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A7A81-A789-43EF-9CB2-055AE92D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4135E-1CB1-4B4E-9A6D-AEBF7114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A1FF3-CB6D-44EF-A237-E3B70DD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ED68A-A83C-48E7-B1A3-2587FCC5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A6D62-1D89-407E-8C70-6D0F79D3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3D3A7-08EE-40E8-921B-0B40C9C4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C2152-8756-44EC-B36A-ECE314D3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AE45C6-F03E-4FB7-ACB2-3E089D8E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523A9-BBAB-4CD4-8350-D2574627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01FA-251A-4908-9892-EC3D2F8D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3D8F9-928D-4035-8C16-C58D23EC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88182-2EE8-4FD5-B735-A15CD8CF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9B24A-5A88-4F7C-8CB9-10AD7CA0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F38C3-E00E-4EC9-8699-5913461D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C7595-44DF-4FCA-96CA-7956F218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A369D-33E1-4C89-881E-03882E0C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3951C-F6C1-422A-B966-35D8020B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4FF47-CE71-47E4-BFB8-A428FD1F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F4FC4-B035-445E-94B9-12653990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AB045-B282-4A7D-8FB2-A128CF75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30C9-B9F6-42AF-ADE4-8EC7FB7E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F82A5-4918-448A-A837-C3BE84AC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A489C-EDE9-4B39-834F-8F1E0A9F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91B3A-9009-4F1B-B50D-A4828B0E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A872D-1BF6-4F01-B060-D2080DFA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CD0987-2478-4C09-84BA-23193573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07D0B4-1C2E-49E9-8BE9-9642E975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8D2ADD-F19F-4684-B4B6-ABC5CB6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60311-02D5-4B0A-A967-5B336385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00296-8C53-4409-83C8-A793AC23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F76A97-C510-4A86-9C93-19C19153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1035-66B8-4009-9CB4-A5C5AB31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796AD-4931-41CA-B632-0382F7D2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F2412-6935-4761-AAD2-96AB92A6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C3557-FD0E-40F9-955E-32FC4481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3A68A-6E51-47E7-90B6-5C3B1D5C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A16E3-3B91-4D4A-95CB-1C627D69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62687F-5D81-4656-AB0E-B6283A5E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EAAD2-0568-4E5C-B7C7-61472BFE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7BF2A4-BDF0-4C37-89C5-920CE37F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8038E1-2633-49A5-8F1F-7B0CEF61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64742-226A-42AB-A692-111AA512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636E-3B69-4C3E-B8EA-7662D89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3EF1D-7AB2-45ED-9B1D-3FD87E4D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86863-7E80-48B8-8DB1-94C66819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CD089-9A70-4E59-88FF-2E86D6A3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AB681B-7C63-496A-8BA6-6914EF93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7F6C58-09A6-4E19-9831-421185DB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37EAF-C57A-46A3-AE1E-1D89B759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25786-4AD8-4519-AA7A-40772ED6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BDF21-0E8E-483A-A185-604B6FCF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DC9FC-F9D3-4D80-A417-9B3CD899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6EC2A-0F5B-41DD-8071-1D3072F5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407-6A40-47A7-B07E-F3780072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2CEC-E868-4360-98DD-FB18B534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B6BDB-99F8-4B4E-BC22-89AEB453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CB5EE-FAE6-498F-90D5-26B5E753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8EB5D8-DC89-4E49-A405-E46C187D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46AB10-004B-4067-891B-C8940F37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63993-1C85-4DE7-866F-5AAF6329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C1B90C-7E59-423B-9815-E664020C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250B5C-8EE2-4CA7-B89A-04FF1EB4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922D68-FE6F-490F-8DBC-E2471465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268C5D-A124-4F91-9E02-BD7C26BD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E3B3B5-FF6E-4353-A980-438F2758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BFD6-59BA-4E1C-94B5-F2911145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9CC609-16C7-4E46-A614-4513166A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AF9080-ADCA-4C3B-ACB8-8725754A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AEA8D-065A-4BED-849A-B75C9603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24712-9450-427B-AD76-F7427715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4BCD40-8411-4CB3-9646-FF2E8056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E853B-91EF-4803-A4DC-23FE2DBC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CF824-1875-433E-A014-2A4B3540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69ADE3-1E23-403A-9AE0-5E2188C9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E0FDE2-DAE9-4008-98CB-5321F7C4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DB5F81-EF0A-4899-BD42-BDF5B586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6D65-1A2B-411D-920C-4CBA5D9D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6ABAA9-DA95-4C94-A378-39D32C89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9AAE8F-26A5-4AE2-90BA-32EB3E12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182A17-01C1-4881-BA83-9EDDE30E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F183C9-31E1-4C5D-8F6E-BD0E9C66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A11767-5038-4CB4-B35E-156A9EB0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233A9-BA93-42FB-898D-47A1D482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29893D-02D4-4B30-A43E-D41D87D9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0CC4C-6140-4057-9798-01DFEFCA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EA148-E8B4-434C-97EA-DA747431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162578-0BCE-462B-9FA7-8362585A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2FA6-7C02-44B5-9BE9-D121FD81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02751-F3A3-4E18-AE0B-BDAF699D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3BF63F-55A1-4F5F-9CDB-B153084E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FE871F-E05B-4179-A425-018A9A68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50A9E6-EC20-450C-A216-164B764B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7B7E83-1242-4517-A3E1-BC0486B8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13E4C1-AE59-4995-BF74-2804E2D8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12B702-E187-4477-A805-A1201DF1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5CA10D-7461-4708-9AB7-F322A8E6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C1437-5027-496B-81F3-434D7599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CE66DE-DC95-4CB5-A05E-89C69595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19F0-822C-4552-8E54-90F5D8CD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ACE6B7-1247-4709-9370-031DA1F5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706EA9-34DD-4EC2-A67F-B16D124C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C5210B-1EAF-4439-9679-153BC5F6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C9A6B5-5B3B-416B-BF76-B7E802D2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92BA3-ACEC-41B0-964C-EBCEDAFF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4FC323-9220-459C-B429-69F69A4D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3EDB86-164D-4615-8E6C-CEF21BC5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79374A-66D5-4607-B809-0BE7443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AFEC67-3ED3-47CE-9F3B-B0960E60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1CD782-F8F8-4690-89B5-AC1BBE3D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E7B4-6C0B-4A22-8542-D874BE6C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6992FB-94FA-4793-98B1-FFC3E365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593B72-C7F3-4598-99F9-29152257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4921FD-C7E6-4368-90CB-D40F38D6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6272-AC1C-480B-AC72-E67FC9D4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46FAA-73AC-4A87-BA34-48324863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ED6E-452D-4875-AB1C-9D74622A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CA11-A250-4690-BCCD-556A16D4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BB5-D7D4-4D96-82F4-0C54DF40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C7BE7-1D26-4DFA-BC23-5388B722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A48E-EDC3-40E8-9CB7-27692977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1802-E137-4566-86EE-B096CA3F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505C-DBFC-46B9-BA9B-6A74747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B45FB-35A0-489F-88B0-0FCCFEBD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02CF-5A25-4287-83B8-D5E7C907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3721F-71C4-4948-A991-395CB515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856C-DB84-4550-AAAF-AD4A4577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CACF-CAAF-4B74-9B15-3073CAD2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3791A-640D-4EF2-8395-9FF0D4EC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677-064A-47DB-8C48-A4241987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59424-5478-46BD-9934-043EBD2C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D3B2B-7CC7-4A82-B6D8-003C3900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6B9E5-2AB7-4EC9-A1E3-2294ED89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48010-A919-408B-86F6-03EFB8AD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ABB26-578C-43FB-9DA0-C38A8DC7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432D6-C3DB-4D6D-81BD-D3207BFA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387EC-7FB8-4550-8A0E-8F218D09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49BB-F272-4A48-AEE4-783AECE8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9057D-9C52-4707-9308-73703107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9F06-9E95-4ACF-939F-390541CA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54E-546B-4DEF-9FB0-B0D73420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3ECF3-EFCA-41D1-889C-AFC7BFD9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45F18-DF6E-430D-A99D-44FD0E8C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01DCD-1D8C-4427-9F6E-E30F0F27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3785C-F861-4684-8BAD-F53E6BCB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933A1-BBFC-47F2-865B-368FE9FF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5862B-6926-428E-980B-8773AF3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4376D-27BA-4026-AD11-E4B01A25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66872-9ADE-427F-8EB1-FCEBEBB0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25FAB-EFA6-43CE-A45C-70ADD2CD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D720B-20A2-47DB-8F42-F0B67ACC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6D0-73AF-4EA4-AF87-D49F3403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75A36-7855-4147-8205-0441C5B9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64C1D-3341-4CC6-BF18-1D353409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53C49-848C-4B8F-B710-E89FA1BE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389E2-DD9A-4B52-9C2F-7C9814DD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81124-AE99-451D-B6B1-969899D1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BBDAF-55AA-431D-A0F0-96A52E13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40496-B1C6-4A1D-9212-F7733603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7E765-B725-4B24-A40B-2A3D724F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13676-9757-4EBB-998E-AE7C38BE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B784D-7C9F-4ABE-8131-6985944D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13F-364D-4579-A643-003A8074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9EDB9-6032-4FD7-92D6-3C6DACB9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6F6BB-DFCE-4896-B2EC-8B7FF65C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04A0-BA8F-45A7-B176-0F45DA02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2DEAD-9284-4E87-BDB6-693A4D16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16A34-D700-4F20-BCB1-D0C89940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A216B-5CB6-4EB1-A8AD-2B9AAD30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D2658-5F63-4605-AC33-69B99687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693CC-4464-49C0-846B-65C3EBB2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53C60-6B2B-411E-A830-26796679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6F991-C344-46B1-B466-161581D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972-8D0D-49B1-992A-A1EFBC83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AD88D-A822-4A03-B5F4-B10DB165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C9EE5-98DA-43A6-A97F-E9138E4C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06078-B480-4D6C-971A-8D5AD6CB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FAB59-AE8F-45EF-B8B5-5409CE76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57DEA-6C17-4202-A27C-91FDFAAD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BA426-0B82-4572-8CA7-696CB63F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73D27-7784-4D7B-806A-FAC23683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9CB57-6477-4E0D-88BA-A2D038DB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0F363-C768-42C4-BB51-C414FBDC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4F129-B60A-4422-AA12-20C65C0A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91B-971F-4275-8FEC-4095012D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2A47E-AF37-4832-B171-7651B68A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8DAE7-2F49-4B2D-BA10-9872C5A6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23C83-EA3E-4340-8CB0-C08FF9B7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43FDC-54EB-4CAD-81AE-BA4B174B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6F4E3-3FDE-40B2-A497-6276759D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4138D-8734-4784-A66E-76F85A88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E7D8A-EBFC-459F-9773-2C182398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EAB11-3856-4C81-8ED6-3AAB97DE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03995-BA16-468D-8412-5EDC8ABA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DB4BB-7D9A-42E6-9C90-2A4CA08D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F8D4-4518-4D59-869A-966A44A64C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3B8A-2480-460D-B995-230427EB20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3F5B-A887-4635-BDAC-9388E69020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C9A4-707A-41E6-8D5D-C9AF30A9E4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4066-F1E1-486C-BFB7-390FAA6BF6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B320-3884-4E11-AE51-55767CE346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A56A-C369-4F27-A2D8-A50F2E1004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7667-DAFA-412B-8438-99A239A998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B38C-61B8-4E5F-BFBD-D228E4CBE8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1051-87E5-4184-9FB5-13C82E252D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41A7-9352-4722-A14A-C29DA1509B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23E4-8D84-4140-B8D5-AE95021AC4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8934-2D21-4DA9-8AA5-EAAA22886B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3696-4EB1-4EF4-A2E9-72FF32ADEB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AF75-C952-4374-9A76-846E271222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AF10-1DB9-4267-87E3-F8104629A7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99DF-BBD5-443B-AB9C-256B7725AC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DC9E-E2AB-4716-A87F-94F0CB48D5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1D86-CCF5-48E3-B6AB-0E9E624F49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CBE4-430A-4B4F-8B7C-AA25822FC3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8490-E163-4F3C-8BC3-2770F7EF16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D360-003C-41A7-A7AE-2955B40A93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8578-0D6B-458A-98D7-F98EC3BCB1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F48A-11A0-4A0C-8615-D0FED3FCBD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12F2-38B2-4826-859F-FC9552C8FD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45F6-86F8-442A-BE44-5D395D4EFE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1525-6238-4C9D-B967-88E7484B72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438F-52D5-4A66-89F9-A19E7AA3C5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855B-0327-4D4C-9798-B92FD55C60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A59F-7809-4CC4-B99A-354EF32C2A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504D-C94B-4D6E-BEC2-2F43049D1F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A643-AD52-4EE9-8ABF-9AA53DF0B7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DC50-8592-4174-8043-F0E35FC808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5F7B-B674-49BE-97BF-9D2F68689C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ECA0-8F64-42F4-8FB8-763975326C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43F7-8877-44B7-91BD-B0866D9C6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F66C-0598-4D99-B149-E99270CF83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EE0F-5D21-48D3-B562-D4DADC9AEE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4020-C245-47A1-AEB1-9E2A8D2CFC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43D7-1AF4-40D1-9A60-802E246374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66760" y="1052640"/>
            <a:ext cx="6810480" cy="12571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138320" y="2708280"/>
            <a:ext cx="6867360" cy="78120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28680" descr=""/>
          <p:cNvPicPr/>
          <p:nvPr/>
        </p:nvPicPr>
        <p:blipFill>
          <a:blip r:embed="rId3"/>
          <a:stretch/>
        </p:blipFill>
        <p:spPr>
          <a:xfrm>
            <a:off x="2700360" y="3933720"/>
            <a:ext cx="35910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60428" descr=""/>
          <p:cNvPicPr/>
          <p:nvPr/>
        </p:nvPicPr>
        <p:blipFill>
          <a:blip r:embed="rId1"/>
          <a:stretch/>
        </p:blipFill>
        <p:spPr>
          <a:xfrm>
            <a:off x="195120" y="743040"/>
            <a:ext cx="87537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666720" y="765000"/>
            <a:ext cx="7810560" cy="427680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59411" descr=""/>
          <p:cNvPicPr/>
          <p:nvPr/>
        </p:nvPicPr>
        <p:blipFill>
          <a:blip r:embed="rId2"/>
          <a:stretch/>
        </p:blipFill>
        <p:spPr>
          <a:xfrm>
            <a:off x="1116000" y="5084640"/>
            <a:ext cx="6391440" cy="1609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3203640" y="4206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4284720" y="4206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5364000" y="4206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64436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7"/>
          <a:stretch/>
        </p:blipFill>
        <p:spPr>
          <a:xfrm>
            <a:off x="7610400" y="41641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684360" y="195120"/>
            <a:ext cx="7067520" cy="646776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8374" descr=""/>
          <p:cNvPicPr/>
          <p:nvPr/>
        </p:nvPicPr>
        <p:blipFill>
          <a:blip r:embed="rId2"/>
          <a:stretch/>
        </p:blipFill>
        <p:spPr>
          <a:xfrm>
            <a:off x="612720" y="106200"/>
            <a:ext cx="708516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414360" y="1419120"/>
            <a:ext cx="8315280" cy="4019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1692360" y="1427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4643280" y="1427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3059280" y="234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392436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1547640" y="4005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7"/>
          <a:stretch/>
        </p:blipFill>
        <p:spPr>
          <a:xfrm>
            <a:off x="6156360" y="48690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66600" y="914400"/>
            <a:ext cx="90108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5300" descr=""/>
          <p:cNvPicPr/>
          <p:nvPr/>
        </p:nvPicPr>
        <p:blipFill>
          <a:blip r:embed="rId1"/>
          <a:stretch/>
        </p:blipFill>
        <p:spPr>
          <a:xfrm>
            <a:off x="200160" y="914400"/>
            <a:ext cx="8743680" cy="5467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255600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3780000" y="4076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58800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7885080" y="4076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755640" y="312840"/>
            <a:ext cx="7534440" cy="642924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54278" descr=""/>
          <p:cNvPicPr/>
          <p:nvPr/>
        </p:nvPicPr>
        <p:blipFill>
          <a:blip r:embed="rId2"/>
          <a:stretch/>
        </p:blipFill>
        <p:spPr>
          <a:xfrm>
            <a:off x="838080" y="281160"/>
            <a:ext cx="747900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2231" descr=""/>
          <p:cNvPicPr/>
          <p:nvPr/>
        </p:nvPicPr>
        <p:blipFill>
          <a:blip r:embed="rId1"/>
          <a:stretch/>
        </p:blipFill>
        <p:spPr>
          <a:xfrm>
            <a:off x="466560" y="1098720"/>
            <a:ext cx="8210880" cy="50670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3419640" y="1628640"/>
            <a:ext cx="266508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3635280" y="220500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3564000" y="32702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900000" y="4941720"/>
            <a:ext cx="784872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03:5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